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6013-6665-4AB5-A2E7-FAF9AB85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538-E8CB-4B52-AB33-515C1F00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9F0-A9CF-48F4-BABD-2AFFF81E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F1D-E96B-4655-8733-CC1C8078F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0189-1E9E-4210-824F-883F2512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C01-3CCE-4DDA-83BA-BA05FD84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7BA5-D240-4BDD-85E1-A76A8DED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2CC-74BC-499F-BE6C-9E94CB16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60F6-DADE-42D7-8BB5-30DE32E5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90A-9149-4017-B6C9-D06FCE26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9B86-0E1B-4E2D-B8DB-34F20950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B09C-F1ED-480F-8649-5C2AF660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2211E-EE71-41AF-A91A-1D063A7769DB}" type="slidenum">
              <a:rPr b="0" lang="en-C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7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5" descr="http://www.dreamstime.com/cartoon-virus-germs-thumb18781277.jpg"/>
          <p:cNvPicPr/>
          <p:nvPr/>
        </p:nvPicPr>
        <p:blipFill>
          <a:blip r:embed="rId1"/>
          <a:stretch/>
        </p:blipFill>
        <p:spPr>
          <a:xfrm>
            <a:off x="2627280" y="19810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ize of Viru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are microscopic and can only be seen using an electron microsc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range in size between 20-40n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1 nm = 1.0 x 10</a:t>
            </a:r>
            <a:r>
              <a:rPr b="0" lang="en-CA" sz="3200" spc="-1" strike="noStrike" baseline="30000">
                <a:solidFill>
                  <a:srgbClr val="ffffff"/>
                </a:solidFill>
                <a:latin typeface="Arial"/>
              </a:rPr>
              <a:t>-6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m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hape of Viru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have two basic shap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Helical (rod-shap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ubic or polyhedral (many-sid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Reproductive Cyc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re are two ways that viruses can reproduce within a living cel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Lytic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Lysogenic Cy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Use pages 56 - 58 to answer the accompanying workshe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4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69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4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ome facts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are microscopic , nonliving parti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ome are harmless, while others kill their hosts, ALL are infectiou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do not display most of the characteristics of living th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cannot fit into any of the 6 Kingd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require a host (living cel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Once inside a living cell, it reprodu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Hos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se are living cells in which viruses reprodu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iruses are selective with regards to their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ink of viruses as packages of genetic instructions that take control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y enter only specific hosts or cell types eg. HIV only effects CD4 T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Viral 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iruses vary in individual structure, but all viruses are made up of two compon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Nucleic acid : DNA or R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Capsid: a protein coat that gives viruses their shape and accounts for 95% of the virus; this also determines what type of cell the virus attaches 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Viruses are classified into orders, families, genus and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re classified based on: size, shape and type of genetic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Arial"/>
              </a:rPr>
              <a:t>Bacteriophage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: a virus that only infects bacterial cells.  It does not enter the host cell, but rather injects its DNA inside and the protein capsule remains outside the ce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Some viruses may have additional structur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Envelopes: consist of lipids and are found only in some viruses; it is believed to come from the host cell when the virus exits the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Tail: viruses that infect bacteria have a tail used for attach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</a:rPr>
              <a:t>Refer to diagra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http://img.sparknotes.com/figures/2/285caff64361a769a0850014b87c228c/structure.gif"/>
          <p:cNvPicPr/>
          <p:nvPr/>
        </p:nvPicPr>
        <p:blipFill>
          <a:blip r:embed="rId1"/>
          <a:stretch/>
        </p:blipFill>
        <p:spPr>
          <a:xfrm>
            <a:off x="2843280" y="620640"/>
            <a:ext cx="33274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http://www.chm.bris.ac.uk/webprojects2006/Kelly/influenzafigure1.jpg"/>
          <p:cNvPicPr/>
          <p:nvPr/>
        </p:nvPicPr>
        <p:blipFill>
          <a:blip r:embed="rId1"/>
          <a:stretch/>
        </p:blipFill>
        <p:spPr>
          <a:xfrm>
            <a:off x="1403280" y="1557360"/>
            <a:ext cx="6334200" cy="37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http://micro.magnet.fsu.edu/cells/viruses/images/hivstructurefigure1.jpg"/>
          <p:cNvPicPr/>
          <p:nvPr/>
        </p:nvPicPr>
        <p:blipFill>
          <a:blip r:embed="rId1"/>
          <a:stretch/>
        </p:blipFill>
        <p:spPr>
          <a:xfrm>
            <a:off x="1763640" y="907920"/>
            <a:ext cx="511344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21:41:17Z</dcterms:created>
  <dc:creator>Fraser &amp; Kate</dc:creator>
  <dc:description/>
  <dc:language>en-US</dc:language>
  <cp:lastModifiedBy>Phillips, Sarah</cp:lastModifiedBy>
  <dcterms:modified xsi:type="dcterms:W3CDTF">2013-02-19T19:54:50Z</dcterms:modified>
  <cp:revision>8</cp:revision>
  <dc:subject/>
  <dc:title>Viruses</dc:title>
</cp:coreProperties>
</file>